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A3C7-E521-445F-8908-12E644C51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was after the Feast of Dedication in Dec.  Feast of Dedication was established to celebrate the rededication of the temple and the relighting of sacred lamps by Judas Maccabeus in 164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Antipas was the one that had John behead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ility – one who exalts himself will be humbled is taught in Matt 18:4, 23:12, and Rom 12: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ing poor guest is laying up treasures in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ke 14:15 “Blessed is he that shall eat bread in the kingdom of heaven” was spoken by a Jew referring to a physical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s made excuses, Gentiles will b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cuses:  finish education, establish career, raise famil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e father and mother – love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 intending to build a tow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B5323-5482-4627-BC5E-C060ABBEE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C3B3D-7E5D-4DB5-8294-4FD3D196D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113DC-31F8-40B1-81C9-ACE2DFFF8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C8C9B-FA11-4E79-8BCA-694541ED6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7C993D-1AE1-43AB-AEE9-82B83DD9474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0C61D2-FC3D-4F58-AA10-0C08C146071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FF89BE-C5A5-4FD3-9594-21C69510F33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C952EA-D5F2-448C-9751-6DEB532871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43A5BB-739C-4DBD-B2CD-DBB9B4F3A03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499CDB-D0D7-44F2-A67C-9FFA0057D21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88E024-ED32-47BE-82C0-3B4EEB237CE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D47DC-2370-409F-ACAC-D28189E0A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E16549-877C-4E5C-B8F0-4A2B231C73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42BFA7-8BBA-42D9-B389-C1671234B6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456967-4AE0-4BCA-BD0F-5230DA91C67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575247-2232-4071-8579-CBBF686D852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673F99-93B4-4D75-8223-E8B5679E291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3B30F-8922-46AC-B7AC-3219F95FB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0030B-B11D-43CA-9040-AD93A0269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28A53-DED0-4936-A784-5C333B4B3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07FAA-84C5-4056-9112-A4511D2F9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2729E-71B5-44E4-9E5A-999C6B5C3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5EDF9-6DBE-4BE9-8EDE-178386E1D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DE931-1B1A-4BA6-AC93-D732C9AAA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BDA1-249F-45E9-944E-AD8B80ACA1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B030-1070-44AA-9872-F2344C1BBF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 Tell The Good News</a:t>
            </a:r>
            <a:br>
              <a:rPr sz="4400"/>
            </a:br>
            <a:r>
              <a:rPr b="0" lang="en-US" sz="3200" spc="-1" strike="noStrike">
                <a:solidFill>
                  <a:srgbClr val="ffffff"/>
                </a:solidFill>
                <a:latin typeface="Tahoma"/>
              </a:rPr>
              <a:t>Summary of 2 Corinthians, Part 1</a:t>
            </a:r>
            <a:endParaRPr b="0" lang="en-US" sz="3200" spc="-1" strike="noStrike">
              <a:solidFill>
                <a:srgbClr val="ffffff"/>
              </a:solidFill>
              <a:latin typeface="Tahoma"/>
            </a:endParaRPr>
          </a:p>
        </p:txBody>
      </p:sp>
      <p:sp>
        <p:nvSpPr>
          <p:cNvPr id="91" name="PlaceHolder 2"/>
          <p:cNvSpPr>
            <a:spLocks noGrp="1"/>
          </p:cNvSpPr>
          <p:nvPr>
            <p:ph type="subTitle"/>
          </p:nvPr>
        </p:nvSpPr>
        <p:spPr>
          <a:xfrm>
            <a:off x="1371600" y="3276360"/>
            <a:ext cx="6400800" cy="1981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rter 12, Lesson 5</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s 19:23 – 20:1</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orinthians 1 – 3</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ges 151 - 159</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80520"/>
            <a:ext cx="8229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metrius and the silversmiths</a:t>
            </a:r>
            <a:br>
              <a:rPr sz="4000"/>
            </a:br>
            <a:r>
              <a:rPr b="0" lang="en-US" sz="4000" spc="-1" strike="noStrike">
                <a:solidFill>
                  <a:srgbClr val="ffffff"/>
                </a:solidFill>
                <a:latin typeface="Tahoma"/>
              </a:rPr>
              <a:t>Acts 19:23-41</a:t>
            </a:r>
            <a:endParaRPr b="0" lang="en-US" sz="4000" spc="-1" strike="noStrike">
              <a:solidFill>
                <a:srgbClr val="ffffff"/>
              </a:solidFill>
              <a:latin typeface="Tahoma"/>
            </a:endParaRPr>
          </a:p>
        </p:txBody>
      </p:sp>
      <p:sp>
        <p:nvSpPr>
          <p:cNvPr id="93" name="PlaceHolder 2"/>
          <p:cNvSpPr>
            <a:spLocks noGrp="1"/>
          </p:cNvSpPr>
          <p:nvPr>
            <p:ph/>
          </p:nvPr>
        </p:nvSpPr>
        <p:spPr>
          <a:xfrm>
            <a:off x="457200" y="2514600"/>
            <a:ext cx="815328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etrius summoned silver craftsmen to oppose Paul’s teaching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had convinced many that gods are not made with hand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ius and Aristarchus were captured and taken to the theatr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was persuaded not to ente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lversmiths rioted for about two hour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own clerk diffused the crow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ul leaves Ephesus and travels to Macedonia</a:t>
            </a:r>
            <a:endParaRPr b="0" lang="en-US" sz="40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wrote his second letter to the Corinthians as he traveled through Macedonia after persecution arose in Ephesu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was anxious about several matters at this tim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riot at Ephesus had been troubling</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e wanted to hear from Titus after sending the first letter to the Corinthian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re were struggles without, fears with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ul’s 3</a:t>
            </a:r>
            <a:r>
              <a:rPr b="0" lang="en-US" sz="4400" spc="-1" strike="noStrike" baseline="30000">
                <a:solidFill>
                  <a:srgbClr val="ffffff"/>
                </a:solidFill>
                <a:latin typeface="Tahoma"/>
              </a:rPr>
              <a:t>rd</a:t>
            </a:r>
            <a:r>
              <a:rPr b="0" lang="en-US" sz="4400" spc="-1" strike="noStrike">
                <a:solidFill>
                  <a:srgbClr val="ffffff"/>
                </a:solidFill>
                <a:latin typeface="Tahoma"/>
              </a:rPr>
              <a:t> Missionary Journey</a:t>
            </a:r>
            <a:endParaRPr b="0" lang="en-US" sz="4400" spc="-1" strike="noStrike">
              <a:solidFill>
                <a:srgbClr val="ffffff"/>
              </a:solidFill>
              <a:latin typeface="Tahoma"/>
            </a:endParaRPr>
          </a:p>
        </p:txBody>
      </p:sp>
      <p:pic>
        <p:nvPicPr>
          <p:cNvPr id="97" name="" descr=""/>
          <p:cNvPicPr/>
          <p:nvPr/>
        </p:nvPicPr>
        <p:blipFill>
          <a:blip r:embed="rId2"/>
          <a:stretch/>
        </p:blipFill>
        <p:spPr>
          <a:xfrm>
            <a:off x="685800" y="1676520"/>
            <a:ext cx="786276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5335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Corinthians 1</a:t>
            </a:r>
            <a:endParaRPr b="0" lang="en-US" sz="4000" spc="-1" strike="noStrike">
              <a:solidFill>
                <a:srgbClr val="ffffff"/>
              </a:solidFill>
              <a:latin typeface="Tahoma"/>
            </a:endParaRPr>
          </a:p>
        </p:txBody>
      </p:sp>
      <p:sp>
        <p:nvSpPr>
          <p:cNvPr id="99" name="PlaceHolder 2"/>
          <p:cNvSpPr>
            <a:spLocks noGrp="1"/>
          </p:cNvSpPr>
          <p:nvPr>
            <p:ph/>
          </p:nvPr>
        </p:nvSpPr>
        <p:spPr>
          <a:xfrm>
            <a:off x="457200" y="1752480"/>
            <a:ext cx="8229600" cy="4678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greeted the church at Corinth and saints in Achai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d comforts us in our tribulations that we may be able to comfort other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ther Paul was afflicted or comforted, it was for the consolation and salvation of other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ugh Paul feared for his life, he did not trust in himself; he trusted in God who raises from the dea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expressed appreciation for Corinth in helping with pray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Corinthians 1</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had planned to visit Corinth as he traveled to Macedonia and again as he returned to Jude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wanted them to know that he was not fickle in changing his pla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had confidence that they would solve their problem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920"/>
            <a:ext cx="82296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Corinthians 2</a:t>
            </a:r>
            <a:endParaRPr b="0" lang="en-US" sz="4400" spc="-1" strike="noStrike">
              <a:solidFill>
                <a:srgbClr val="ffffff"/>
              </a:solidFill>
              <a:latin typeface="Tahoma"/>
            </a:endParaRPr>
          </a:p>
        </p:txBody>
      </p:sp>
      <p:sp>
        <p:nvSpPr>
          <p:cNvPr id="103" name="PlaceHolder 2"/>
          <p:cNvSpPr>
            <a:spLocks noGrp="1"/>
          </p:cNvSpPr>
          <p:nvPr>
            <p:ph/>
          </p:nvPr>
        </p:nvSpPr>
        <p:spPr>
          <a:xfrm>
            <a:off x="533520" y="1676160"/>
            <a:ext cx="822960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was determined not to come to them with heaviness of hear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requested that they forgive and comfort the transgressor that had repente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giveness is necessary to keep Satan from getting an advantag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affirmed that he, Silas, and Timothy had not corrupted the word of God, but spoke in Christ from Go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Corinthians 3</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are our epistle written in our hearts, known and read of all m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nistration of death engraved in stones was glorious, much more doth the ministration of righteousness exceed in glor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21:39:45Z</dcterms:created>
  <dc:creator>Ray Cooley</dc:creator>
  <dc:description/>
  <dc:language>en-US</dc:language>
  <cp:lastModifiedBy>Ray Cooley</cp:lastModifiedBy>
  <dcterms:modified xsi:type="dcterms:W3CDTF">2007-01-11T23:38:50Z</dcterms:modified>
  <cp:revision>44</cp:revision>
  <dc:subject/>
  <dc:title>Life of Christ, Part 2 In Perea</dc:title>
</cp:coreProperties>
</file>